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97A9F-CC20-4041-847E-C8ECBBABB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2BB6F-6CBC-4B9E-9662-FBC7D307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E272B-7460-437B-A0B6-DD737554A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73C56-D015-4A78-90C4-12EB0EDC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517-2DF2-4130-A4E6-2E20E0C8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FA2-61D3-4B16-804D-4984CC99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C72-3194-491A-8E6D-45C6C791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2D6-B163-444B-883D-7B15782A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A87B5-0E40-4882-8C2E-51FC7269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EE80-11DE-40D7-8B3D-65A92AB7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AB76D-D5C5-4748-A3FC-A7F1473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44CE1-A73C-442C-A3BB-8CD07325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D713-6584-4325-89D2-E2D1A579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F3BC6-A5D9-435C-BE9A-93599AC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C3323-7280-4D18-8652-A86AA8F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1AA-AA90-445B-A50B-C95953D3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A0F18-E54D-4CDD-8C61-D5A4FDC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3047-D169-4B37-8399-6D0AADD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B2236-BA1B-417B-A1B5-B3D9EB74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E4CC6-5BEF-418D-B6B0-4FB5D1E6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8F197-4DB9-4DF2-AD82-02395120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8836-B874-411F-AC55-2C0D2470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5C65-AC85-4A2D-BE47-F78F04FE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F8CE-93ED-445F-A91C-E9DF543F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782A-1FF3-4BB4-A44C-8D12C73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CADB-B985-4201-815F-9EA5505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194-DF14-47C7-B3DA-5609C3CB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0213-A774-4481-863D-ECF804B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ECCB-F25A-406F-8C64-6437A422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0D6C-8240-44EF-9203-244F2CB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9C04-5BFA-4DA0-B6FF-F55DEFDD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158C-CAEF-40A4-B6FC-B61E961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5C92-84B2-47A7-8B2A-323F4A87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DF66-0F34-4B1F-BF59-7E6B66E8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9C56-F4BA-49C6-A7DF-A77B3B4B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B770-6306-4229-BC48-486C9732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53C3-4A4F-4CDD-82C9-A26F34F9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E4D-810B-44FD-8562-7BDDA0EB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A754-A219-4005-A64C-279A063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39C9-D816-4F80-821F-26C70C3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87C4-1F58-4823-B688-090842B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1785-AE0C-481F-A7C4-4828831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AF09-F592-4259-B989-37ACAFE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0F5E-FD12-4E04-9234-52E4735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9EC2-489C-4213-841C-1DD8083F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B5BB-A801-4E71-82C7-953BB62C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1FCA-5D56-44EE-A0B6-DFEAD506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A3049-CBA9-4EE0-B6DF-F3F482A4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EB0-3EFA-4E59-8066-F5CC6C60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01CC-ABA2-4631-AEEB-B747CA7D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742AB-029D-40D6-9CED-0DE39F2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D7907-A204-4133-9297-D4FBE86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B5C8-67FB-4D61-8CB9-5B849A68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0CAD-C7D3-4E1C-915E-C962C46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993D9-468B-485F-BD07-D70BBA5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79FD-6879-4786-A070-73DD4A7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2596-4C2A-4F8E-9BFC-F5BCF9E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0F00-8AA1-46EB-8526-EB8B913F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3531-3826-467D-ACFC-96F395B2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A3C-EA07-4F0D-800C-BD4AD03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2043-4364-48EC-9207-8B830268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7F32-D8B4-48BE-BB9C-EFEA7370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95C44-14EC-49EC-996D-2EFB7D4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E1AA-76C8-485B-9796-A8E2CEB7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2A79-626B-454F-8DD3-C1DAD79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3ED9-14F0-4B29-B9DC-C410972F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E90D7-0FFE-4B2D-BE16-DBD1CBA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FD15-8908-4E90-B731-EA8F9F6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B6A9-FECA-4E50-8CC0-E155BE45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E8B0-C23C-45B5-95EE-74B9247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1D7-719A-48C2-BC98-8163981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2A3E-ABD8-49EB-A53E-8645B4A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CF4D-9219-4887-9E05-19FEF5E7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99303-CDAC-4732-88E5-E93DDC78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6EE3-CBC9-42AC-980F-633EAFE3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438F-685D-4A24-B99C-BB948D7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0CEB7-CA07-45FF-AD3C-0BD4CE3E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4F7A-7967-4185-AE79-A6CEBD1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30273-6D4B-46BC-9C51-4E75062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7238E-07BB-4783-9AA6-4F0B12C0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6EA4-D3B1-460A-9A98-1353B0E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D2D-ED58-40C2-8C15-FE43A59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D8D3-EB20-47BF-87B9-C17441C8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4DC2E-276B-44A8-812B-64910F4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CC37-9ACB-437A-9830-35690DB8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4FD9-C8CE-4241-958B-0DD79515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5B13-6DE9-411C-B71E-21382D0B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26505-1F9B-4496-8281-27D725BA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C7F9-AF81-4F47-8A75-8E2DD68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E958-FE55-4875-9EAB-EEBFFBBF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4AEA6-A2DA-40B0-AA24-3C341259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02097-7AAA-4F15-B5B4-3214F204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8B6-34B8-46FB-9849-310CC86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DF5A4-B3ED-49A5-A5E6-A6680836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F152-9E79-4652-9878-917E767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DEA71-A63F-4384-A7F3-1AF5599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3158B-2CFB-4523-8E6A-3D20FBF4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124C-18FB-4F44-A3BF-240C783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0607-2540-4E80-AA09-359C3F16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E949F-4B98-49F2-8B28-1F6939A0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B4090-B166-4D18-9A1E-A3F16235896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C5993-80C2-4BFB-8F48-E7B5D990946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6EB0F-5AE1-4848-B0AB-7643ED4672F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B3C50-B61C-48E1-9DA3-06A618C2665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A16CF-7C5F-43B3-9320-75ED549720D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BA3AD-3B45-45C5-986D-1AE81970FD6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B5425-4475-49FD-AD84-05DA73F18F0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6FD4B-75FA-46DF-82FA-6B961C3996C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CDE47-97D7-4374-8DC6-956D6623C7D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1ADEA-2FDE-469D-96C6-7028831AC2A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6095-BB53-4EB7-B1FF-6B2BFB65349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36749-604C-4394-9A4E-9B0C8F963F0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FA1CB-F866-4F2E-91CF-E604A0A9146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B5EAC-B9B0-4EB7-AF1D-977149FEEB4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D33E6-F851-4627-9D02-3B2EAF5537D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53647-CA0E-41C7-8505-F3B990D8542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Religion of Mesopotami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Angelica Partyka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8800" y="653760"/>
            <a:ext cx="3657600" cy="1098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Social Classes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Isosceles Triangle 8"/>
          <p:cNvSpPr/>
          <p:nvPr/>
        </p:nvSpPr>
        <p:spPr>
          <a:xfrm>
            <a:off x="1371600" y="1353960"/>
            <a:ext cx="5842080" cy="5131080"/>
          </a:xfrm>
          <a:prstGeom prst="triangle">
            <a:avLst>
              <a:gd name="adj" fmla="val 47986"/>
            </a:avLst>
          </a:prstGeom>
          <a:gradFill rotWithShape="0">
            <a:gsLst>
              <a:gs pos="0">
                <a:srgbClr val="790000">
                  <a:alpha val="90196"/>
                </a:srgbClr>
              </a:gs>
              <a:gs pos="100000">
                <a:srgbClr val="af0000">
                  <a:alpha val="90196"/>
                </a:srgbClr>
              </a:gs>
            </a:gsLst>
            <a:lin ang="5400000"/>
          </a:gradFill>
          <a:ln w="158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0"/>
          <p:cNvSpPr/>
          <p:nvPr/>
        </p:nvSpPr>
        <p:spPr>
          <a:xfrm>
            <a:off x="3335400" y="2855880"/>
            <a:ext cx="1738080" cy="1800"/>
          </a:xfrm>
          <a:prstGeom prst="line">
            <a:avLst/>
          </a:prstGeom>
          <a:ln w="34920">
            <a:solidFill>
              <a:srgbClr val="2b8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2"/>
          <p:cNvSpPr/>
          <p:nvPr/>
        </p:nvSpPr>
        <p:spPr>
          <a:xfrm flipV="1">
            <a:off x="1978200" y="5366880"/>
            <a:ext cx="4674960" cy="34920"/>
          </a:xfrm>
          <a:prstGeom prst="line">
            <a:avLst/>
          </a:prstGeom>
          <a:ln w="34920">
            <a:solidFill>
              <a:srgbClr val="2b8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3"/>
          <p:cNvSpPr/>
          <p:nvPr/>
        </p:nvSpPr>
        <p:spPr>
          <a:xfrm>
            <a:off x="2773440" y="3827520"/>
            <a:ext cx="2882880" cy="1440"/>
          </a:xfrm>
          <a:prstGeom prst="line">
            <a:avLst/>
          </a:prstGeom>
          <a:ln w="34920">
            <a:solidFill>
              <a:srgbClr val="2b8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4978440" y="15908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s, Landlords, some pri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7"/>
          <p:cNvSpPr/>
          <p:nvPr/>
        </p:nvSpPr>
        <p:spPr>
          <a:xfrm>
            <a:off x="5433840" y="2844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lthy merc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1"/>
          <p:cNvSpPr/>
          <p:nvPr/>
        </p:nvSpPr>
        <p:spPr>
          <a:xfrm>
            <a:off x="6248520" y="38084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(most of the 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2"/>
          <p:cNvSpPr/>
          <p:nvPr/>
        </p:nvSpPr>
        <p:spPr>
          <a:xfrm>
            <a:off x="7213680" y="4662360"/>
            <a:ext cx="17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ptured from war, children used to pay dep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Straight Arrow Connector 34"/>
          <p:cNvCxnSpPr/>
          <p:nvPr/>
        </p:nvCxnSpPr>
        <p:spPr>
          <a:xfrm flipH="1">
            <a:off x="4977720" y="2235600"/>
            <a:ext cx="456120" cy="32148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399" name="Straight Arrow Connector 36"/>
          <p:cNvCxnSpPr/>
          <p:nvPr/>
        </p:nvCxnSpPr>
        <p:spPr>
          <a:xfrm flipH="1">
            <a:off x="5433480" y="3214800"/>
            <a:ext cx="442080" cy="27324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 flipH="1">
            <a:off x="6248160" y="4453560"/>
            <a:ext cx="405360" cy="20844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401" name="Straight Arrow Connector 42"/>
          <p:cNvCxnSpPr>
            <a:stCxn id="397" idx="1"/>
          </p:cNvCxnSpPr>
          <p:nvPr/>
        </p:nvCxnSpPr>
        <p:spPr>
          <a:xfrm flipH="1">
            <a:off x="6874920" y="5401080"/>
            <a:ext cx="338760" cy="305640"/>
          </a:xfrm>
          <a:prstGeom prst="straightConnector1">
            <a:avLst/>
          </a:prstGeom>
          <a:ln w="3492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Arts of Mesopotami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58800" y="1998720"/>
            <a:ext cx="3657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rt was made to glorify powerful dynast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ade to reflect their beliefs in God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Believed in afterlife, and decorated the tombs with art, furniture and item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5" name="Content Placeholder 3" descr="ram.jpg"/>
          <p:cNvPicPr/>
          <p:nvPr/>
        </p:nvPicPr>
        <p:blipFill>
          <a:blip r:embed="rId1"/>
          <a:srcRect l="0" t="-1207" r="0" b="-1207"/>
          <a:stretch/>
        </p:blipFill>
        <p:spPr>
          <a:xfrm>
            <a:off x="4827600" y="7650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8800" y="1404720"/>
            <a:ext cx="3657600" cy="1098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Materials used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7" name="Content Placeholder 5" descr="mesop2.jpg"/>
          <p:cNvPicPr/>
          <p:nvPr/>
        </p:nvPicPr>
        <p:blipFill>
          <a:blip r:embed="rId1"/>
          <a:srcRect l="0" t="-4933" r="0" b="-4933"/>
          <a:stretch/>
        </p:blipFill>
        <p:spPr>
          <a:xfrm>
            <a:off x="4316400" y="538200"/>
            <a:ext cx="4027680" cy="60418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8800" y="297180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arbl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Red sandston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hell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ton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2132280" y="276120"/>
            <a:ext cx="7824600" cy="13240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ocation…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302160" y="1600200"/>
            <a:ext cx="284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sopotamia is located east of the Mediterranean Sea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rth of the Syrian Desert &amp; Arabian Desert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It is called the ‘Fertile Crescent’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658800" y="2124000"/>
            <a:ext cx="5351400" cy="4002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6958080" y="277920"/>
            <a:ext cx="1490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sopotamian Contributions…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The ancient Sumerians created the world's first civilization where people settled together in one area known as the city-state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umerians creation of Writing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The water clock,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4836960" y="3533760"/>
            <a:ext cx="280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179280" y="75204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Trad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1187280"/>
            <a:ext cx="640080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Mesopotamia did not have many natural resources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refore they needed to trade with neighboring countries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Grain, Oils &amp; Textiles were taken to Babylonia…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o be exchanged for timber, wine and stones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re were several methods used to transport goods;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Grai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by boat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ton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by foot or donkey</a:t>
            </a: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492960" y="5248440"/>
            <a:ext cx="2651040" cy="1609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165240" y="3800520"/>
            <a:ext cx="2412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Econom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286000" y="2023920"/>
            <a:ext cx="6197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Based on Agriculture       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Cultivation of Barley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to make Beer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Other products are;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Oil (sesame seeds, linseed)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Flax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sto MT"/>
              </a:rPr>
              <a:t>Wheat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sto MT"/>
              </a:rPr>
              <a:t>The South of Mesopotamia has always had a different economy 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  <a:p>
            <a:pPr marL="262800" indent="-2628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alisto MT"/>
              </a:rPr>
              <a:t>based on dates and fishing</a:t>
            </a:r>
            <a:endParaRPr b="0" lang="en-US" sz="1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457200" y="345960"/>
            <a:ext cx="25081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nguag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Mesopotamia had one of the first recorded languag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Invented to keep track of farming and trade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The form of writing was called Cuneiform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sto MT"/>
              </a:rPr>
              <a:t>Earliest form of writing in the World.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457200" y="4017960"/>
            <a:ext cx="2690640" cy="2584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658800" y="2478240"/>
            <a:ext cx="180504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652320" y="450720"/>
            <a:ext cx="7839360" cy="1481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0" y="2064960"/>
            <a:ext cx="668808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Sumer – Only upper-class boys attended schools. They mainly learned how to write and spell by copying religious books and songs. Also learned history and mathematics. 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Assyria – Education started at the age of 14. They had a Base 60 system, and we use it for time. In present time Mathematics we mainly use a Base 10 system.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They learned: </a:t>
            </a: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08560" indent="-26532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laws and how the government worked, how to worship gods.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08560" indent="-26532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To speak the truth ad follow law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08560" indent="-26532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Use courage against fear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951520" y="5307120"/>
            <a:ext cx="28926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olytheism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2077560"/>
            <a:ext cx="40831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elieved in many Go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,000 God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od were immort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God controlled various forces of nat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ods were all powerfu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umans were just their serv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city had its own God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1644480"/>
            <a:ext cx="3657600" cy="1098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Enlil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69" name="Content Placeholder 4" descr="images-1.jpeg"/>
          <p:cNvPicPr/>
          <p:nvPr/>
        </p:nvPicPr>
        <p:blipFill>
          <a:blip r:embed="rId1"/>
          <a:srcRect l="0" t="-2803" r="0" b="-2803"/>
          <a:stretch/>
        </p:blipFill>
        <p:spPr>
          <a:xfrm>
            <a:off x="5006880" y="1022400"/>
            <a:ext cx="3376800" cy="50655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8800" y="277488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ost powerful Go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God of storm and ai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Humans feared him as “the raging flood that has no rival”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8800" y="1644480"/>
            <a:ext cx="3657600" cy="1098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Ugallu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2" name="Content Placeholder 4" descr="mesopotamia_babylonian_god.jpg"/>
          <p:cNvPicPr/>
          <p:nvPr/>
        </p:nvPicPr>
        <p:blipFill>
          <a:blip r:embed="rId1"/>
          <a:srcRect l="0" t="-1199" r="0" b="-1199"/>
          <a:stretch/>
        </p:blipFill>
        <p:spPr>
          <a:xfrm>
            <a:off x="4827600" y="65412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8800" y="277488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Good Demo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rotected humans from bad Demons who brought disease, misfortune and misery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1360" y="1095120"/>
            <a:ext cx="4386240" cy="1098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Epic of Gilgamesh”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Content Placeholder 9" descr="epic-of-gilgamesh.jpg"/>
          <p:cNvPicPr/>
          <p:nvPr/>
        </p:nvPicPr>
        <p:blipFill>
          <a:blip r:embed="rId1"/>
          <a:srcRect l="0" t="-15349" r="0" b="-15349"/>
          <a:stretch/>
        </p:blipFill>
        <p:spPr>
          <a:xfrm rot="702600">
            <a:off x="4565160" y="8082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8800" y="2774880"/>
            <a:ext cx="3657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Oldest story in the worl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A myth about a God from Mesopotami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52320" y="450720"/>
            <a:ext cx="7839360" cy="14702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48840" y="1998360"/>
            <a:ext cx="438012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umerian – Sumer, one of the oldest civilizations, consisted of different city-states. They were run by different Sumerian rulers, both secular and religious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ssyrian – The Assyrian king had total power. The Assyrians were the first people to have an efficient way of running an Empi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ersian -  The Persian kings were very wise rulers. They thought highly of justice; made sure laws are followed.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4722840" y="2205000"/>
            <a:ext cx="4403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Most of the civilizations in Mesopotamia used the Hammurabi’s Code. The set of laws were written by King Hammurabi. It consisted of 282 specific laws.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Most of the laws dealt with: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Community 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Family relations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Business conduct 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sto MT"/>
              </a:rPr>
              <a:t>Crime</a:t>
            </a:r>
            <a:endParaRPr b="0" lang="en-US" sz="22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5716440" y="2573280"/>
            <a:ext cx="27482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ulture of Mesopotami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8800" y="1176120"/>
            <a:ext cx="3657600" cy="577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alisto MT"/>
              </a:rPr>
              <a:t>Foods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86" name="Content Placeholder 6" descr="spices.jpg"/>
          <p:cNvPicPr/>
          <p:nvPr/>
        </p:nvPicPr>
        <p:blipFill>
          <a:blip r:embed="rId1"/>
          <a:srcRect l="-18327" t="0" r="-18327" b="0"/>
          <a:stretch/>
        </p:blipFill>
        <p:spPr>
          <a:xfrm>
            <a:off x="3041640" y="905040"/>
            <a:ext cx="4689360" cy="3430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12480" y="1869840"/>
            <a:ext cx="400356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oups                                                            beer and brewery products                 flours and bread                              syrups and honey                                 oils and fats                                        spices                                                  Seeds                                                   dairy products                                  pulses emmer                                    wheat barley straws                           fruits: figs, raisins, pomegranates dates salt and condiments                         melons and cucumber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88" name="Picture 5" descr="AA026350.png"/>
          <p:cNvPicPr/>
          <p:nvPr/>
        </p:nvPicPr>
        <p:blipFill>
          <a:blip r:embed="rId2"/>
          <a:stretch/>
        </p:blipFill>
        <p:spPr>
          <a:xfrm rot="20938200">
            <a:off x="5491080" y="4662000"/>
            <a:ext cx="31212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41:32Z</dcterms:created>
  <dc:creator>IT User</dc:creator>
  <dc:description/>
  <dc:language>en-US</dc:language>
  <cp:lastModifiedBy>IT User</cp:lastModifiedBy>
  <dcterms:modified xsi:type="dcterms:W3CDTF">2010-09-27T12:05:24Z</dcterms:modified>
  <cp:revision>12</cp:revision>
  <dc:subject/>
  <dc:title>Religion</dc:title>
</cp:coreProperties>
</file>